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0A4-4082-4427-886C-B07BF4FA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D49-973A-49B8-B203-3B5415A6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859-B805-4071-85D1-466CD8DE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6AC-3D81-43FF-AF2D-68D5299D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85D-4012-4FAA-9946-FF23200E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B12-76E1-4E8E-BB4A-6CE13232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E05-1956-4A3C-BA24-B24DDCD7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02E-438E-4353-B651-B3FEE4C8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F78-E804-4E8B-8B00-464970EB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CD9-5CFD-46B6-98DA-3BDD378B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580-8F3B-4AC0-AB40-E2EEA97F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29A-79C0-4BFF-A36E-AB282629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5B0F-50B7-4CB9-9108-BEA7C5291A8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ضاعفة الحرف الساكن الأخ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981080"/>
            <a:ext cx="2666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ضاعف الحرف الساكن الاخير اذ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كلمة بمقطع واحد وتنتهي بحرف علة + ساك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علة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981080"/>
            <a:ext cx="24386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كننا لا نضاعف اذا كان هنا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حرفين علة او ساكن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لم تنتهي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- انتهت الكلمة 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تغيير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ي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غي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لي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اذا انتهت الكلمة بساكن +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غير اذا انتهت الكلمة بعلة +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حذف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في اخر الكل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حذ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كانت لا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أ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e + l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حذفها اذ كانت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اضاف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1981080"/>
            <a:ext cx="5410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ض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انتهت الكلمة ب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 – s – sh – x –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واحيانا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اءا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to – pho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1904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g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ru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es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b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prom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for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f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7772400" cy="19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o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bab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bo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p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toma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consid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c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572000"/>
            <a:ext cx="7772400" cy="190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ray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ti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enj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ontro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trave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vis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tri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oper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prefe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0:17Z</dcterms:created>
  <dc:creator>Bafayad</dc:creator>
  <dc:description/>
  <dc:language>en-US</dc:language>
  <cp:lastModifiedBy>معمل الانجليزي</cp:lastModifiedBy>
  <dcterms:modified xsi:type="dcterms:W3CDTF">2005-03-21T07:20:04Z</dcterms:modified>
  <cp:revision>11</cp:revision>
  <dc:subject/>
  <dc:title>عرض تقديمي من PowerPoint</dc:title>
</cp:coreProperties>
</file>